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B0A-7630-4639-95B8-395622C2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696-688E-4997-B1D3-260364F9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E30-1015-41D5-BAF9-97FBA14B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2E0-C1C3-46E8-8EF0-72EC053A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835-14A7-42F7-8BFC-21F25B7D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EFA-8413-44AB-B539-CF30787A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9FE-38F9-4F54-B46E-A5EF4FA6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187-79A0-400F-8F10-0BEA1980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6E9-AE48-4AF4-8F4C-8E026E71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DB4-A328-4434-97F6-07986AB5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680-B645-4D20-995E-825ED68B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F20-7885-4DD3-A467-8409357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62A5-0178-42E2-A9E6-8918133A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s.bbc.co.uk/" TargetMode="External"/><Relationship Id="rId2" Type="http://schemas.openxmlformats.org/officeDocument/2006/relationships/hyperlink" Target="http://www.npr.org/" TargetMode="External"/><Relationship Id="rId3" Type="http://schemas.openxmlformats.org/officeDocument/2006/relationships/hyperlink" Target="http://topics.nytimes.com/" TargetMode="External"/><Relationship Id="rId4" Type="http://schemas.openxmlformats.org/officeDocument/2006/relationships/hyperlink" Target="http://londonkoreanlinks.net/" TargetMode="External"/><Relationship Id="rId5" Type="http://schemas.openxmlformats.org/officeDocument/2006/relationships/hyperlink" Target="http://cartoons.nytimages.com/" TargetMode="External"/><Relationship Id="rId6" Type="http://schemas.openxmlformats.org/officeDocument/2006/relationships/hyperlink" Target="http://cartoons.nytimages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m Jong-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Kim Jong-il (undated image, released by Korean Central News Agency in August 2008) "/>
          <p:cNvPicPr/>
          <p:nvPr/>
        </p:nvPicPr>
        <p:blipFill>
          <a:blip r:embed="rId1"/>
          <a:stretch/>
        </p:blipFill>
        <p:spPr>
          <a:xfrm>
            <a:off x="152280" y="1828800"/>
            <a:ext cx="3724560" cy="4648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Kim Jong-il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635040"/>
            <a:ext cx="77724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C world new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Public Radi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p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Time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opics.nytim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ndonkoreanlinks.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artoons.nyt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ock North Korean Scud-B missile, left, and other South Korean missiles are displayed at Korea War Memorial Muse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1_South_Korea_Koreas_Nuclear.sff.jpg"/>
          <p:cNvPicPr/>
          <p:nvPr/>
        </p:nvPicPr>
        <p:blipFill>
          <a:blip r:embed="rId1"/>
          <a:stretch/>
        </p:blipFill>
        <p:spPr>
          <a:xfrm>
            <a:off x="1447920" y="457200"/>
            <a:ext cx="54864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ock North Korean Scud-B missile, center, and other South Korean missile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ed at Korea War Memorial Muse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2_South_Korea_Koreas_Nuclear.sff.jpg"/>
          <p:cNvPicPr/>
          <p:nvPr/>
        </p:nvPicPr>
        <p:blipFill>
          <a:blip r:embed="rId1"/>
          <a:stretch/>
        </p:blipFill>
        <p:spPr>
          <a:xfrm>
            <a:off x="2514600" y="228600"/>
            <a:ext cx="3395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rockets North Korea has launched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Nor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uth Korean holds banner attached with pictures of North Korean leader Kim Jong Il and North's missiles during a rally held against North Korea's rocket launch in Seoul, South Ko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3_South_Korea_Koreas_Nuclear.sff.jpg"/>
          <p:cNvPicPr/>
          <p:nvPr/>
        </p:nvPicPr>
        <p:blipFill>
          <a:blip r:embed="rId1"/>
          <a:stretch/>
        </p:blipFill>
        <p:spPr>
          <a:xfrm>
            <a:off x="990720" y="533520"/>
            <a:ext cx="66294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in Seoul, South Korea, protested on Thursday against the North’s scheduled rocket launch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orth Korean soldier on a recent patrol near North Korea’s border with China. The United States is relying on China to persuade the North to rejoin talks over the North’s nuclear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6019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5:15:56Z</dcterms:created>
  <dc:creator>ws12001</dc:creator>
  <dc:description/>
  <dc:language>en-US</dc:language>
  <cp:lastModifiedBy>ws12001</cp:lastModifiedBy>
  <dcterms:modified xsi:type="dcterms:W3CDTF">2009-05-19T16:48:40Z</dcterms:modified>
  <cp:revision>6</cp:revision>
  <dc:subject/>
  <dc:title>Kim Jong-il</dc:title>
</cp:coreProperties>
</file>